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D47-E9E8-4DA5-8162-29297BD1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7F9-2761-4F6B-BBE6-AF180C8B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210-6C95-4F89-A3F8-5A77194A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346-8D4B-4517-A615-26960A1F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6521-1014-4704-8C82-560E0543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C89C-72D7-416D-A0D3-FB4F7A03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F2BA-D303-431E-A1F4-4F5BE62E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8195-64A5-4CB6-B330-BEB163F4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D462-6511-4A39-8790-64B51298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67AC-DEFD-4C5D-9F8E-ADF46C95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3613-9FE0-4FD8-9F72-19F10C8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D60-FEF0-4BDC-BB01-27AD05DD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BB1B-F44D-4036-86F5-CE22F428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A3A1-20BC-4696-A13C-A84EEC79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5F98-2649-4FC5-8862-F9493BE4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297F-FAC3-46E5-95AC-017F2206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7836-A101-49F3-A9F9-69F37E79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0DC-EB3E-40B1-A115-EBA546D8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BD9-3944-46ED-BA60-696229C4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7AD-8ECE-4B6E-9068-A248BBF3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04D-5A17-4738-9C5C-30B02DCA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7F3D-32BF-4472-B957-0F1CFC4D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977-5B2F-4BB6-BFC2-7F19D9F3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985-E693-4448-A212-05536BE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AC1B-4891-4D99-BEF8-6BDDF926D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1118-FC40-471F-8D78-16FF94310145}" type="slidenum">
              <a:rPr b="0" lang="fr-F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24080" y="3212640"/>
            <a:ext cx="228600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Unité 3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93440" y="4229280"/>
            <a:ext cx="758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Home Sweet Home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146320" y="477720"/>
            <a:ext cx="44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836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 -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1" name="Picture 6" descr="MPj040732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3151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Il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4" name="Picture 4" descr="MPj04022150000[1]"/>
          <p:cNvPicPr/>
          <p:nvPr/>
        </p:nvPicPr>
        <p:blipFill>
          <a:blip r:embed="rId1"/>
          <a:stretch/>
        </p:blipFill>
        <p:spPr>
          <a:xfrm>
            <a:off x="2693880" y="1862280"/>
            <a:ext cx="375300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tu / +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7" name="Picture 1" descr="conseils-de-rasage-federer.jpg"/>
          <p:cNvPicPr/>
          <p:nvPr/>
        </p:nvPicPr>
        <p:blipFill>
          <a:blip r:embed="rId1"/>
          <a:stretch/>
        </p:blipFill>
        <p:spPr>
          <a:xfrm>
            <a:off x="2209680" y="2209680"/>
            <a:ext cx="5486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 / +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50" name="Picture 2" descr="C:\Users\vgrebert\Desktop\wakeup[1].jpg"/>
          <p:cNvPicPr/>
          <p:nvPr/>
        </p:nvPicPr>
        <p:blipFill>
          <a:blip r:embed="rId1"/>
          <a:stretch/>
        </p:blipFill>
        <p:spPr>
          <a:xfrm>
            <a:off x="2666880" y="1981080"/>
            <a:ext cx="44960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On / -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53" name="Picture 2" descr="C:\Users\vgrebert\Desktop\gogoaaa00042[1].jpg"/>
          <p:cNvPicPr/>
          <p:nvPr/>
        </p:nvPicPr>
        <p:blipFill>
          <a:blip r:embed="rId1"/>
          <a:stretch/>
        </p:blipFill>
        <p:spPr>
          <a:xfrm>
            <a:off x="1752480" y="2362320"/>
            <a:ext cx="5775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dddddd"/>
                </a:solidFill>
                <a:latin typeface="Times New Roman"/>
              </a:rPr>
              <a:t>Direction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99"/>
                </a:solidFill>
                <a:latin typeface="Arial"/>
              </a:rPr>
              <a:t>Maintenant, changez de papier et corrigez le papier de votre partenai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 -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60" name="Picture 6" descr="MPj040732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3151080" cy="47246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838080" y="56386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 me lave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IL  / +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64" name="Picture 4" descr="MPj04022150000[1]"/>
          <p:cNvPicPr/>
          <p:nvPr/>
        </p:nvPicPr>
        <p:blipFill>
          <a:blip r:embed="rId1"/>
          <a:stretch/>
        </p:blipFill>
        <p:spPr>
          <a:xfrm>
            <a:off x="2693880" y="1862280"/>
            <a:ext cx="3753000" cy="46908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838080" y="56386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Il s’habille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tu / +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4949280" y="6019920"/>
            <a:ext cx="25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u te ras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69" name="Picture 5" descr="conseils-de-rasage-federer.jpg"/>
          <p:cNvPicPr/>
          <p:nvPr/>
        </p:nvPicPr>
        <p:blipFill>
          <a:blip r:embed="rId1"/>
          <a:stretch/>
        </p:blipFill>
        <p:spPr>
          <a:xfrm>
            <a:off x="2209680" y="2209680"/>
            <a:ext cx="5486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 / +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72" name="Picture 2" descr="C:\Users\vgrebert\Desktop\wakeup[1].jpg"/>
          <p:cNvPicPr/>
          <p:nvPr/>
        </p:nvPicPr>
        <p:blipFill>
          <a:blip r:embed="rId1"/>
          <a:stretch/>
        </p:blipFill>
        <p:spPr>
          <a:xfrm>
            <a:off x="2666880" y="1981080"/>
            <a:ext cx="4496040" cy="41576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2987640" y="594360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Je me réveill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dddddd"/>
                </a:solidFill>
                <a:latin typeface="Times New Roman"/>
              </a:rPr>
              <a:t>Direction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99"/>
                </a:solidFill>
                <a:latin typeface="Arial"/>
              </a:rPr>
              <a:t>Regardez la photo et écrivez sur votre tableau la forme correcte du verb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On / -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76" name="Picture 2" descr="C:\Users\vgrebert\Desktop\gogoaaa00042[1].jpg"/>
          <p:cNvPicPr/>
          <p:nvPr/>
        </p:nvPicPr>
        <p:blipFill>
          <a:blip r:embed="rId1"/>
          <a:stretch/>
        </p:blipFill>
        <p:spPr>
          <a:xfrm>
            <a:off x="1752480" y="2362320"/>
            <a:ext cx="5775480" cy="35049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/>
          <p:cNvSpPr/>
          <p:nvPr/>
        </p:nvSpPr>
        <p:spPr>
          <a:xfrm>
            <a:off x="2232720" y="571500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On ne se déshabille pa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0" name="Picture 4" descr="MPj04090860000[1]"/>
          <p:cNvPicPr/>
          <p:nvPr/>
        </p:nvPicPr>
        <p:blipFill>
          <a:blip r:embed="rId1"/>
          <a:stretch/>
        </p:blipFill>
        <p:spPr>
          <a:xfrm>
            <a:off x="2971800" y="1905120"/>
            <a:ext cx="3040200" cy="4572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1219320" y="38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U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3734280" y="53352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tu te réveill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181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Ell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5" name="Picture 4" descr="Agathe sitting on the edge of her bed. She’s wearing a long pink nightgown. The clock on the nightstand beside the bed reads 7:00."/>
          <p:cNvPicPr/>
          <p:nvPr/>
        </p:nvPicPr>
        <p:blipFill>
          <a:blip r:embed="rId1"/>
          <a:stretch/>
        </p:blipFill>
        <p:spPr>
          <a:xfrm>
            <a:off x="2057400" y="1828800"/>
            <a:ext cx="5334120" cy="46879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3748680" y="762120"/>
            <a:ext cx="283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lle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se lève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1" name="Picture 6" descr="MPj040732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3151080" cy="47246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7"/>
          <p:cNvSpPr/>
          <p:nvPr/>
        </p:nvSpPr>
        <p:spPr>
          <a:xfrm>
            <a:off x="3598200" y="6858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Je  me lave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65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5" name="Picture 4" descr="MPj04007320000[1]"/>
          <p:cNvPicPr/>
          <p:nvPr/>
        </p:nvPicPr>
        <p:blipFill>
          <a:blip r:embed="rId1"/>
          <a:stretch/>
        </p:blipFill>
        <p:spPr>
          <a:xfrm>
            <a:off x="1143000" y="1763640"/>
            <a:ext cx="7086600" cy="472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3125160" y="533520"/>
            <a:ext cx="52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Je me brosse les dent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Mon pè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9" name="Picture 4" descr="MPj04022150000[1]"/>
          <p:cNvPicPr/>
          <p:nvPr/>
        </p:nvPicPr>
        <p:blipFill>
          <a:blip r:embed="rId1"/>
          <a:stretch/>
        </p:blipFill>
        <p:spPr>
          <a:xfrm>
            <a:off x="2693880" y="1862280"/>
            <a:ext cx="3753000" cy="46908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"/>
          <p:cNvSpPr/>
          <p:nvPr/>
        </p:nvSpPr>
        <p:spPr>
          <a:xfrm>
            <a:off x="3149640" y="685800"/>
            <a:ext cx="46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on père s’habille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ON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3" name="Picture 4" descr="MPj04089080000[1]"/>
          <p:cNvPicPr/>
          <p:nvPr/>
        </p:nvPicPr>
        <p:blipFill>
          <a:blip r:embed="rId1"/>
          <a:stretch/>
        </p:blipFill>
        <p:spPr>
          <a:xfrm>
            <a:off x="1066680" y="1828800"/>
            <a:ext cx="7010640" cy="46944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4026240" y="755640"/>
            <a:ext cx="350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On se couche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dddddd"/>
                </a:solidFill>
                <a:latin typeface="Times New Roman"/>
              </a:rPr>
              <a:t>Continuons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99"/>
                </a:solidFill>
                <a:latin typeface="Arial"/>
              </a:rPr>
              <a:t>Maintenant, écrivez la série de phrase l’une après l’autre sur vos tableaux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GREBERT,VIVIANE</cp:lastModifiedBy>
  <dcterms:modified xsi:type="dcterms:W3CDTF">2017-02-05T18:00:19Z</dcterms:modified>
  <cp:revision>45</cp:revision>
  <dc:subject/>
  <dc:title>Tu as une idée de cadeau pour…</dc:title>
</cp:coreProperties>
</file>